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1A86-B3C8-47AA-94C9-A9A7FB8A5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D9DC-986E-4756-8084-899D2C390FA0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950D-DFEF-4816-AAA8-4764EF48B071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57E4-9654-4856-AFF7-195B5D88F72D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2CC6-6980-4D6B-9E7C-C871D40628AA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EDFE-D636-46F6-9D9B-6FB156FDAF9E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FB16-4655-4AF6-A4BE-902FCC9D67B3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F2CA-017B-41BC-A5D7-5F6DA5ACDE03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0051-FAD0-4A2B-BE1B-F6C928A5CB2E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7FBC-3792-40BE-A293-0864B336810E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BF1B-0837-4596-AA24-7A5D6C2D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0272-1C0A-4C3D-AF2B-417A7124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EAC5-5BE1-4217-8107-1B4736E5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846D-825A-4E9F-ACA0-C89DF5A9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05F0-BD9C-45B0-BB00-45E4271A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A4C2-1A7B-4880-ADC5-EC7A38BB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D469-418E-4D42-AA00-55E325E5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28B6-F938-464D-BA46-0476E9A9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CF80-C166-446D-9E46-6F380157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8F11-B634-4EFE-A957-7CFA7F0F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D155-D029-498E-80C9-07C462A5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24A6-ABCB-4BB6-A31A-66C7DAE6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EB28-BBD9-4F9A-A663-8C1ED730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9C19-75ED-4E43-A4CA-E9B47AC6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EBA0-FCF4-4B66-8317-E6E69652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AE01-248B-48E5-AD1B-AB508D22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905B-7947-478C-A1D5-60A91760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C687-E75C-4F51-937F-FA7D5677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8DA3-C9E8-495D-9A4A-85ADAD48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2B50-16EF-4923-A2D3-12D93C5F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A788-88DC-4F38-BD7B-383A53FF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741D-E2DA-44F5-B3B0-66944A86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1A56-0B45-42FE-A744-E2453E58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7225-2218-4CC3-B261-FC464EB0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774D-B6E4-4028-868D-1DEB72614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55DB-7AEC-4173-8B90-37E11A0D745D}" type="slidenum">
              <a:rPr b="0" lang="en-US" sz="1400" spc="-1" strike="noStrike">
                <a:solidFill>
                  <a:srgbClr val="5d220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Tahoma"/>
              </a:rPr>
              <a:t>Chapter 21, Part 2 Not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2388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2204"/>
                </a:solidFill>
                <a:latin typeface="Tahoma"/>
              </a:rPr>
              <a:t>Relationships Among Living Thing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Relationships Among Living Thing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cologists organize living things into groups to make it easier to study ecosystem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population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is a group of the same type of organisms living in the same place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ll of the populations that live in an area make up a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community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Relationships Among Living Things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(cont</a:t>
            </a:r>
            <a:r>
              <a:rPr b="1" lang="ja-JP" sz="20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d)</a:t>
            </a:r>
            <a:endParaRPr b="1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cologists want to know th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size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of a population, where its members live, and how it is able to stay alive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cologists determin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population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density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by comparing the size of a population with its area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cologists us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tags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to study populations of animals that travel long distance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Relationships Among Living Things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(cont</a:t>
            </a:r>
            <a:r>
              <a:rPr b="1" lang="ja-JP" sz="20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d)</a:t>
            </a:r>
            <a:endParaRPr b="1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Populations do not have enough resources to grow larger and larger forev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ngs that limit the size of a population are called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limiting factors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imiting factors includ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food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water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living space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, and other resource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Relationships Among Living Things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(cont</a:t>
            </a:r>
            <a:r>
              <a:rPr b="1" lang="ja-JP" sz="20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d)</a:t>
            </a:r>
            <a:endParaRPr b="1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most common interactions in a community ar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feeding interactions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rganisms will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compete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for any resources that is in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limited supply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greater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the population size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in an area,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the greater the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competition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for resource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Relationships Among Living Things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(cont</a:t>
            </a:r>
            <a:r>
              <a:rPr b="1" lang="ja-JP" sz="20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d)</a:t>
            </a:r>
            <a:endParaRPr b="1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Predation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is the act of one organism feeding on anoth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 bird of prey, such as a falcon, is an example of a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predator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 field mouse is an example of a flacon</a:t>
            </a:r>
            <a:r>
              <a:rPr b="0" lang="ja-JP" sz="32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prey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-- the organism it eats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Relationships Among Living Things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(cont</a:t>
            </a:r>
            <a:r>
              <a:rPr b="1" lang="ja-JP" sz="20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d)</a:t>
            </a:r>
            <a:endParaRPr b="1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en the African tickbird eats insects off an zebra</a:t>
            </a:r>
            <a:r>
              <a:rPr b="0" lang="ja-JP" sz="32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 skin,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 both organisms benefit. (</a:t>
            </a:r>
            <a:r>
              <a:rPr b="1" i="1" lang="en-US" sz="2800" spc="-1" strike="noStrike">
                <a:solidFill>
                  <a:srgbClr val="212164"/>
                </a:solidFill>
                <a:latin typeface="Arial"/>
              </a:rPr>
              <a:t>Symbiotic or</a:t>
            </a:r>
            <a:r>
              <a:rPr b="1" lang="en-US" sz="2800" spc="-1" strike="noStrike">
                <a:solidFill>
                  <a:srgbClr val="870000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212164"/>
                </a:solidFill>
                <a:latin typeface="Arial"/>
              </a:rPr>
              <a:t>mutualism</a:t>
            </a:r>
            <a:r>
              <a:rPr b="1" lang="en-US" sz="2800" spc="-1" strike="noStrike">
                <a:solidFill>
                  <a:srgbClr val="212164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486400" y="4419720"/>
            <a:ext cx="2971800" cy="1869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40384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Relationships Among Living Things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(cont</a:t>
            </a:r>
            <a:r>
              <a:rPr b="1" lang="ja-JP" sz="20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d)</a:t>
            </a:r>
            <a:endParaRPr b="1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nsects biting a zebra</a:t>
            </a:r>
            <a:r>
              <a:rPr b="0" lang="ja-JP" sz="32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 skin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 harm 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zebra, but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 benefit themselves. </a:t>
            </a:r>
            <a:r>
              <a:rPr b="1" lang="en-US" sz="2800" spc="-1" strike="noStrike">
                <a:solidFill>
                  <a:srgbClr val="212164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212164"/>
                </a:solidFill>
                <a:latin typeface="Arial"/>
              </a:rPr>
              <a:t>parasitism</a:t>
            </a:r>
            <a:r>
              <a:rPr b="1" lang="en-US" sz="2800" spc="-1" strike="noStrike">
                <a:solidFill>
                  <a:srgbClr val="212164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 bird that builds its nest in a tree benefits but the tree is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neither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harmed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nor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helped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212164"/>
                </a:solidFill>
                <a:latin typeface="Arial"/>
              </a:rPr>
              <a:t>commensalism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Relationships Among Living Things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(cont</a:t>
            </a:r>
            <a:r>
              <a:rPr b="1" lang="ja-JP" sz="20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d)</a:t>
            </a:r>
            <a:endParaRPr b="1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ach type of organism has a different role to play in an ecosystem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role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of an organism in an ecosystem is called its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niche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where an organism lives out its life is called its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habitat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18:56:56Z</dcterms:created>
  <dc:creator>Administrator</dc:creator>
  <dc:description/>
  <dc:language>en-US</dc:language>
  <cp:lastModifiedBy>Denice Fogel User</cp:lastModifiedBy>
  <dcterms:modified xsi:type="dcterms:W3CDTF">2013-06-09T21:29:24Z</dcterms:modified>
  <cp:revision>58</cp:revision>
  <dc:subject/>
  <dc:title>Slide 1</dc:title>
</cp:coreProperties>
</file>